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732588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4DBF9-46F2-44EC-9744-77D01A375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ABF38-3569-4056-BF69-39BE622F7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47090-B39F-408F-98A2-CEEEB4DD9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C51F1-B63C-4322-A522-6164555E3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76019-E800-488E-BBFF-C4D3EA86C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66D62-C187-42B4-B2F1-8A428328E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4B498-D85F-4658-ABC1-1D9280ABB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8A1A2-929C-4057-94DF-C28E87296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D7D1C-C43F-4AB2-8201-FFFCB4DB8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C9932-D1EB-4BEA-BCA5-897EEC1AA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72B1F-4048-459A-92FB-39008205A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1B7CB-9B93-4BDE-868C-5A925C8F6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524F1-D3F0-4E63-A50C-9E5170503E4C}" type="slidenum">
              <a:rPr b="0" lang="ja-JP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New photon detector R&amp;D for Megaton water cherencov detec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T 2007 May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050560" y="43920"/>
            <a:ext cx="5473800" cy="4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&amp;D -two direction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179280" y="476280"/>
          <a:ext cx="8856720" cy="6192720"/>
        </p:xfrm>
        <a:graphic>
          <a:graphicData uri="http://schemas.openxmlformats.org/drawingml/2006/table">
            <a:tbl>
              <a:tblPr/>
              <a:tblGrid>
                <a:gridCol w="1584360"/>
                <a:gridCol w="3529080"/>
                <a:gridCol w="3743280"/>
              </a:tblGrid>
              <a:tr h="68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an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p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5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oton detector R&amp;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dout system R&amp;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45" name=""/>
          <p:cNvGrpSpPr/>
          <p:nvPr/>
        </p:nvGrpSpPr>
        <p:grpSpPr>
          <a:xfrm>
            <a:off x="1802520" y="1253520"/>
            <a:ext cx="1642320" cy="1888200"/>
            <a:chOff x="1802520" y="1253520"/>
            <a:chExt cx="1642320" cy="1888200"/>
          </a:xfrm>
        </p:grpSpPr>
        <p:grpSp>
          <p:nvGrpSpPr>
            <p:cNvPr id="46" name=""/>
            <p:cNvGrpSpPr/>
            <p:nvPr/>
          </p:nvGrpSpPr>
          <p:grpSpPr>
            <a:xfrm>
              <a:off x="1802520" y="1253520"/>
              <a:ext cx="1642320" cy="1888200"/>
              <a:chOff x="1802520" y="1253520"/>
              <a:chExt cx="1642320" cy="1888200"/>
            </a:xfrm>
          </p:grpSpPr>
          <p:grpSp>
            <p:nvGrpSpPr>
              <p:cNvPr id="47" name=""/>
              <p:cNvGrpSpPr/>
              <p:nvPr/>
            </p:nvGrpSpPr>
            <p:grpSpPr>
              <a:xfrm>
                <a:off x="1802520" y="1253520"/>
                <a:ext cx="1617120" cy="1611360"/>
                <a:chOff x="1802520" y="1253520"/>
                <a:chExt cx="1617120" cy="1611360"/>
              </a:xfrm>
            </p:grpSpPr>
            <p:grpSp>
              <p:nvGrpSpPr>
                <p:cNvPr id="48" name=""/>
                <p:cNvGrpSpPr/>
                <p:nvPr/>
              </p:nvGrpSpPr>
              <p:grpSpPr>
                <a:xfrm>
                  <a:off x="1802520" y="1253520"/>
                  <a:ext cx="1617120" cy="1609920"/>
                  <a:chOff x="1802520" y="1253520"/>
                  <a:chExt cx="1617120" cy="160992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>
                    <a:off x="2336760" y="2067120"/>
                    <a:ext cx="642600" cy="796320"/>
                  </a:xfrm>
                  <a:custGeom>
                    <a:avLst/>
                    <a:gdLst>
                      <a:gd name="textAreaLeft" fmla="*/ 38880 w 642600"/>
                      <a:gd name="textAreaRight" fmla="*/ 603720 w 642600"/>
                      <a:gd name="textAreaTop" fmla="*/ 38880 h 796320"/>
                      <a:gd name="textAreaBottom" fmla="*/ 757440 h 796320"/>
                    </a:gdLst>
                    <a:ahLst/>
                    <a:rect l="textAreaLeft" t="textAreaTop" r="textAreaRight" b="textAreaBottom"/>
                    <a:pathLst>
                      <a:path w="21600" h="26764">
                        <a:moveTo>
                          <a:pt x="4493" y="0"/>
                        </a:moveTo>
                        <a:arcTo wR="4493" hR="4493" stAng="16200000" swAng="-5400000"/>
                        <a:lnTo>
                          <a:pt x="0" y="22271"/>
                        </a:lnTo>
                        <a:arcTo wR="4493" hR="4493" stAng="10800000" swAng="-5400000"/>
                        <a:lnTo>
                          <a:pt x="17107" y="26764"/>
                        </a:lnTo>
                        <a:arcTo wR="4493" hR="4493" stAng="5400000" swAng="-5400000"/>
                        <a:lnTo>
                          <a:pt x="21600" y="4493"/>
                        </a:lnTo>
                        <a:arcTo wR="4493" hR="4493" stAng="0" swAng="-5400000"/>
                        <a:close/>
                      </a:path>
                    </a:pathLst>
                  </a:custGeom>
                  <a:solidFill>
                    <a:srgbClr val="ffffff"/>
                  </a:solidFill>
                  <a:ln w="28440">
                    <a:solidFill>
                      <a:srgbClr val="99cc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>
                    <a:off x="1835280" y="1273680"/>
                    <a:ext cx="1584360" cy="10882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99cc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" name=""/>
                  <p:cNvSpPr/>
                  <p:nvPr/>
                </p:nvSpPr>
                <p:spPr>
                  <a:xfrm>
                    <a:off x="2355120" y="2246760"/>
                    <a:ext cx="608760" cy="1605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52" name=""/>
                  <p:cNvGrpSpPr/>
                  <p:nvPr/>
                </p:nvGrpSpPr>
                <p:grpSpPr>
                  <a:xfrm>
                    <a:off x="1802520" y="1253520"/>
                    <a:ext cx="1597680" cy="1037160"/>
                    <a:chOff x="1802520" y="1253520"/>
                    <a:chExt cx="1597680" cy="1037160"/>
                  </a:xfrm>
                </p:grpSpPr>
                <p:sp>
                  <p:nvSpPr>
                    <p:cNvPr id="53" name=""/>
                    <p:cNvSpPr/>
                    <p:nvPr/>
                  </p:nvSpPr>
                  <p:spPr>
                    <a:xfrm rot="21468000">
                      <a:off x="1820520" y="1282680"/>
                      <a:ext cx="1561320" cy="978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0842" y="0"/>
                          </a:moveTo>
                          <a:arcTo wR="10800" hR="10800" stAng="-5386777" swAng="5367352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0842" y="0"/>
                          </a:moveTo>
                          <a:arcTo wR="10800" hR="10800" stAng="-5386777" swAng="5367352"/>
                        </a:path>
                      </a:pathLst>
                    </a:custGeom>
                    <a:solidFill>
                      <a:srgbClr val="ffffff"/>
                    </a:solidFill>
                    <a:ln w="76320">
                      <a:solidFill>
                        <a:srgbClr val="ffcc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" name=""/>
                    <p:cNvSpPr/>
                    <p:nvPr/>
                  </p:nvSpPr>
                  <p:spPr>
                    <a:xfrm flipH="1" rot="66600">
                      <a:off x="1884240" y="1281600"/>
                      <a:ext cx="1486080" cy="978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0842" y="0"/>
                          </a:moveTo>
                          <a:arcTo wR="10800" hR="10800" stAng="-5386777" swAng="5308926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0842" y="0"/>
                          </a:moveTo>
                          <a:arcTo wR="10800" hR="10800" stAng="-5386777" swAng="5308926"/>
                        </a:path>
                      </a:pathLst>
                    </a:custGeom>
                    <a:solidFill>
                      <a:srgbClr val="ffffff"/>
                    </a:solidFill>
                    <a:ln w="76320">
                      <a:solidFill>
                        <a:srgbClr val="ffcc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55" name=""/>
                <p:cNvGrpSpPr/>
                <p:nvPr/>
              </p:nvGrpSpPr>
              <p:grpSpPr>
                <a:xfrm>
                  <a:off x="2467800" y="2117160"/>
                  <a:ext cx="385560" cy="747720"/>
                  <a:chOff x="2467800" y="2117160"/>
                  <a:chExt cx="385560" cy="747720"/>
                </a:xfrm>
              </p:grpSpPr>
              <p:sp>
                <p:nvSpPr>
                  <p:cNvPr id="56" name=""/>
                  <p:cNvSpPr/>
                  <p:nvPr/>
                </p:nvSpPr>
                <p:spPr>
                  <a:xfrm>
                    <a:off x="2467800" y="2117160"/>
                    <a:ext cx="385560" cy="747720"/>
                  </a:xfrm>
                  <a:prstGeom prst="rect">
                    <a:avLst/>
                  </a:prstGeom>
                  <a:solidFill>
                    <a:srgbClr val="808080"/>
                  </a:solidFill>
                  <a:ln w="28440">
                    <a:solidFill>
                      <a:srgbClr val="99cc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" name=""/>
                  <p:cNvSpPr/>
                  <p:nvPr/>
                </p:nvSpPr>
                <p:spPr>
                  <a:xfrm>
                    <a:off x="2478960" y="2856960"/>
                    <a:ext cx="362880" cy="2520"/>
                  </a:xfrm>
                  <a:prstGeom prst="line">
                    <a:avLst/>
                  </a:prstGeom>
                  <a:ln w="3816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pic>
            <p:nvPicPr>
              <p:cNvPr id="58" name="" descr=""/>
              <p:cNvPicPr/>
              <p:nvPr/>
            </p:nvPicPr>
            <p:blipFill>
              <a:blip r:embed="rId1"/>
              <a:srcRect l="48301" t="56375" r="40471" b="5752"/>
              <a:stretch/>
            </p:blipFill>
            <p:spPr>
              <a:xfrm>
                <a:off x="2497320" y="2141280"/>
                <a:ext cx="322920" cy="1000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" name=""/>
              <p:cNvSpPr/>
              <p:nvPr/>
            </p:nvSpPr>
            <p:spPr>
              <a:xfrm>
                <a:off x="2532240" y="2068920"/>
                <a:ext cx="252720" cy="0"/>
              </a:xfrm>
              <a:prstGeom prst="line">
                <a:avLst/>
              </a:prstGeom>
              <a:ln w="7632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2087640" y="1405080"/>
                <a:ext cx="1357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cc00"/>
                    </a:solidFill>
                    <a:latin typeface="Comic Sans MS"/>
                  </a:rPr>
                  <a:t>Photocathod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" name=""/>
            <p:cNvSpPr/>
            <p:nvPr/>
          </p:nvSpPr>
          <p:spPr>
            <a:xfrm>
              <a:off x="2346480" y="1772280"/>
              <a:ext cx="67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99"/>
                  </a:solidFill>
                  <a:latin typeface="Comic Sans MS"/>
                </a:rPr>
                <a:t>Sci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403720" y="2422800"/>
              <a:ext cx="616680" cy="33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99"/>
                  </a:solidFill>
                  <a:latin typeface="Comic Sans MS"/>
                </a:rPr>
                <a:t>PM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3" name="" descr=""/>
          <p:cNvPicPr/>
          <p:nvPr/>
        </p:nvPicPr>
        <p:blipFill>
          <a:blip r:embed="rId2"/>
          <a:srcRect l="0" t="0" r="63264" b="6163"/>
          <a:stretch/>
        </p:blipFill>
        <p:spPr>
          <a:xfrm>
            <a:off x="3708360" y="1197000"/>
            <a:ext cx="1522440" cy="194472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>
            <a:lum bright="12000"/>
          </a:blip>
          <a:stretch/>
        </p:blipFill>
        <p:spPr>
          <a:xfrm>
            <a:off x="7020000" y="1268280"/>
            <a:ext cx="1838160" cy="1870200"/>
          </a:xfrm>
          <a:prstGeom prst="rect">
            <a:avLst/>
          </a:prstGeom>
          <a:ln w="0">
            <a:noFill/>
          </a:ln>
        </p:spPr>
      </p:pic>
      <p:grpSp>
        <p:nvGrpSpPr>
          <p:cNvPr id="65" name=""/>
          <p:cNvGrpSpPr/>
          <p:nvPr/>
        </p:nvGrpSpPr>
        <p:grpSpPr>
          <a:xfrm>
            <a:off x="2268360" y="3357720"/>
            <a:ext cx="2305080" cy="2232000"/>
            <a:chOff x="2268360" y="3357720"/>
            <a:chExt cx="2305080" cy="2232000"/>
          </a:xfrm>
        </p:grpSpPr>
        <p:pic>
          <p:nvPicPr>
            <p:cNvPr id="66" name="" descr=""/>
            <p:cNvPicPr/>
            <p:nvPr/>
          </p:nvPicPr>
          <p:blipFill>
            <a:blip r:embed="rId4"/>
            <a:srcRect l="17508" t="12557" r="13711" b="5953"/>
            <a:stretch/>
          </p:blipFill>
          <p:spPr>
            <a:xfrm>
              <a:off x="2268360" y="3357720"/>
              <a:ext cx="2305080" cy="2232000"/>
            </a:xfrm>
            <a:prstGeom prst="rect">
              <a:avLst/>
            </a:prstGeom>
            <a:ln w="9360">
              <a:solidFill>
                <a:srgbClr val="333399"/>
              </a:solidFill>
              <a:miter/>
            </a:ln>
          </p:spPr>
        </p:pic>
        <p:pic>
          <p:nvPicPr>
            <p:cNvPr id="67" name="" descr=""/>
            <p:cNvPicPr/>
            <p:nvPr/>
          </p:nvPicPr>
          <p:blipFill>
            <a:blip r:embed="rId5"/>
            <a:srcRect l="16077" t="9433" r="10749" b="5617"/>
            <a:stretch/>
          </p:blipFill>
          <p:spPr>
            <a:xfrm>
              <a:off x="2268360" y="4412520"/>
              <a:ext cx="1168920" cy="11764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8" name="" descr=""/>
          <p:cNvPicPr/>
          <p:nvPr/>
        </p:nvPicPr>
        <p:blipFill>
          <a:blip r:embed="rId6"/>
          <a:stretch/>
        </p:blipFill>
        <p:spPr>
          <a:xfrm>
            <a:off x="5508720" y="3270240"/>
            <a:ext cx="3384360" cy="196524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1908000" y="5877000"/>
            <a:ext cx="3168720" cy="64260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Multichannel</a:t>
            </a:r>
            <a:r>
              <a:rPr b="0" lang="ja-JP" sz="1800" spc="-1" strike="noStrike">
                <a:solidFill>
                  <a:srgbClr val="ffffff"/>
                </a:solidFill>
                <a:latin typeface="Comic Sans MS"/>
              </a:rPr>
              <a:t> FE ASIC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, close to the PM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700360" y="4869000"/>
            <a:ext cx="358920" cy="2887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2700000" y="5157720"/>
            <a:ext cx="142920" cy="719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7"/>
          <a:stretch/>
        </p:blipFill>
        <p:spPr>
          <a:xfrm>
            <a:off x="5435640" y="5373720"/>
            <a:ext cx="3384360" cy="1251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2023200" y="2421000"/>
            <a:ext cx="13222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HybridPM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709800" y="2630520"/>
            <a:ext cx="6638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M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438880" y="1844640"/>
            <a:ext cx="16254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ybrid Pho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439600" y="4724280"/>
            <a:ext cx="3529080" cy="64260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Low noise Preamp ASIC on HP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+ Q-T/waveform recoder AS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llabor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79280" y="549000"/>
            <a:ext cx="878544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It is difficult to finalize Mton detector system (incl. readout system) at pres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Compromise over performance and c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132000" y="2349360"/>
            <a:ext cx="2089440" cy="1727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8360" y="4365720"/>
            <a:ext cx="58028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Development of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Exchange information of R&amp;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Discussion of Mton detector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932360" y="4653000"/>
            <a:ext cx="115092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302520" y="4365720"/>
            <a:ext cx="1744200" cy="52056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508720" y="5661000"/>
            <a:ext cx="115092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06520" y="5300640"/>
            <a:ext cx="2161800" cy="82548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V con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2050920" y="44280"/>
            <a:ext cx="547380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&amp;D -two direction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287280" y="476280"/>
          <a:ext cx="8856720" cy="6192720"/>
        </p:xfrm>
        <a:graphic>
          <a:graphicData uri="http://schemas.openxmlformats.org/drawingml/2006/table">
            <a:tbl>
              <a:tblPr/>
              <a:tblGrid>
                <a:gridCol w="1584360"/>
                <a:gridCol w="3529080"/>
                <a:gridCol w="3743280"/>
              </a:tblGrid>
              <a:tr h="68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an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p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5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oton detector R&amp;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dout system R&amp;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87" name=""/>
          <p:cNvGrpSpPr/>
          <p:nvPr/>
        </p:nvGrpSpPr>
        <p:grpSpPr>
          <a:xfrm>
            <a:off x="1802520" y="1253520"/>
            <a:ext cx="1642320" cy="1888200"/>
            <a:chOff x="1802520" y="1253520"/>
            <a:chExt cx="1642320" cy="1888200"/>
          </a:xfrm>
        </p:grpSpPr>
        <p:grpSp>
          <p:nvGrpSpPr>
            <p:cNvPr id="88" name=""/>
            <p:cNvGrpSpPr/>
            <p:nvPr/>
          </p:nvGrpSpPr>
          <p:grpSpPr>
            <a:xfrm>
              <a:off x="1802520" y="1253520"/>
              <a:ext cx="1642320" cy="1888200"/>
              <a:chOff x="1802520" y="1253520"/>
              <a:chExt cx="1642320" cy="1888200"/>
            </a:xfrm>
          </p:grpSpPr>
          <p:grpSp>
            <p:nvGrpSpPr>
              <p:cNvPr id="89" name=""/>
              <p:cNvGrpSpPr/>
              <p:nvPr/>
            </p:nvGrpSpPr>
            <p:grpSpPr>
              <a:xfrm>
                <a:off x="1802520" y="1253520"/>
                <a:ext cx="1617120" cy="1611360"/>
                <a:chOff x="1802520" y="1253520"/>
                <a:chExt cx="1617120" cy="1611360"/>
              </a:xfrm>
            </p:grpSpPr>
            <p:grpSp>
              <p:nvGrpSpPr>
                <p:cNvPr id="90" name=""/>
                <p:cNvGrpSpPr/>
                <p:nvPr/>
              </p:nvGrpSpPr>
              <p:grpSpPr>
                <a:xfrm>
                  <a:off x="1802520" y="1253520"/>
                  <a:ext cx="1617120" cy="1609920"/>
                  <a:chOff x="1802520" y="1253520"/>
                  <a:chExt cx="1617120" cy="1609920"/>
                </a:xfrm>
              </p:grpSpPr>
              <p:sp>
                <p:nvSpPr>
                  <p:cNvPr id="91" name=""/>
                  <p:cNvSpPr/>
                  <p:nvPr/>
                </p:nvSpPr>
                <p:spPr>
                  <a:xfrm>
                    <a:off x="2336760" y="2067120"/>
                    <a:ext cx="642600" cy="796320"/>
                  </a:xfrm>
                  <a:custGeom>
                    <a:avLst/>
                    <a:gdLst>
                      <a:gd name="textAreaLeft" fmla="*/ 38880 w 642600"/>
                      <a:gd name="textAreaRight" fmla="*/ 603720 w 642600"/>
                      <a:gd name="textAreaTop" fmla="*/ 38880 h 796320"/>
                      <a:gd name="textAreaBottom" fmla="*/ 757440 h 796320"/>
                    </a:gdLst>
                    <a:ahLst/>
                    <a:rect l="textAreaLeft" t="textAreaTop" r="textAreaRight" b="textAreaBottom"/>
                    <a:pathLst>
                      <a:path w="21600" h="26764">
                        <a:moveTo>
                          <a:pt x="4493" y="0"/>
                        </a:moveTo>
                        <a:arcTo wR="4493" hR="4493" stAng="16200000" swAng="-5400000"/>
                        <a:lnTo>
                          <a:pt x="0" y="22271"/>
                        </a:lnTo>
                        <a:arcTo wR="4493" hR="4493" stAng="10800000" swAng="-5400000"/>
                        <a:lnTo>
                          <a:pt x="17107" y="26764"/>
                        </a:lnTo>
                        <a:arcTo wR="4493" hR="4493" stAng="5400000" swAng="-5400000"/>
                        <a:lnTo>
                          <a:pt x="21600" y="4493"/>
                        </a:lnTo>
                        <a:arcTo wR="4493" hR="4493" stAng="0" swAng="-5400000"/>
                        <a:close/>
                      </a:path>
                    </a:pathLst>
                  </a:custGeom>
                  <a:solidFill>
                    <a:srgbClr val="ffffff"/>
                  </a:solidFill>
                  <a:ln w="28440">
                    <a:solidFill>
                      <a:srgbClr val="99cc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"/>
                  <p:cNvSpPr/>
                  <p:nvPr/>
                </p:nvSpPr>
                <p:spPr>
                  <a:xfrm>
                    <a:off x="1835280" y="1273680"/>
                    <a:ext cx="1584360" cy="10882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99cc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"/>
                  <p:cNvSpPr/>
                  <p:nvPr/>
                </p:nvSpPr>
                <p:spPr>
                  <a:xfrm>
                    <a:off x="2355120" y="2246760"/>
                    <a:ext cx="608760" cy="1605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94" name=""/>
                  <p:cNvGrpSpPr/>
                  <p:nvPr/>
                </p:nvGrpSpPr>
                <p:grpSpPr>
                  <a:xfrm>
                    <a:off x="1802520" y="1253520"/>
                    <a:ext cx="1597680" cy="1037160"/>
                    <a:chOff x="1802520" y="1253520"/>
                    <a:chExt cx="1597680" cy="1037160"/>
                  </a:xfrm>
                </p:grpSpPr>
                <p:sp>
                  <p:nvSpPr>
                    <p:cNvPr id="95" name=""/>
                    <p:cNvSpPr/>
                    <p:nvPr/>
                  </p:nvSpPr>
                  <p:spPr>
                    <a:xfrm rot="21468000">
                      <a:off x="1820520" y="1282680"/>
                      <a:ext cx="1561320" cy="978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0842" y="0"/>
                          </a:moveTo>
                          <a:arcTo wR="10800" hR="10800" stAng="-5386777" swAng="5367352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0842" y="0"/>
                          </a:moveTo>
                          <a:arcTo wR="10800" hR="10800" stAng="-5386777" swAng="5367352"/>
                        </a:path>
                      </a:pathLst>
                    </a:custGeom>
                    <a:solidFill>
                      <a:srgbClr val="ffffff"/>
                    </a:solidFill>
                    <a:ln w="76320">
                      <a:solidFill>
                        <a:srgbClr val="ffcc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6" name=""/>
                    <p:cNvSpPr/>
                    <p:nvPr/>
                  </p:nvSpPr>
                  <p:spPr>
                    <a:xfrm flipH="1" rot="66600">
                      <a:off x="1884240" y="1281600"/>
                      <a:ext cx="1486080" cy="978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0842" y="0"/>
                          </a:moveTo>
                          <a:arcTo wR="10800" hR="10800" stAng="-5386777" swAng="5308926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0842" y="0"/>
                          </a:moveTo>
                          <a:arcTo wR="10800" hR="10800" stAng="-5386777" swAng="5308926"/>
                        </a:path>
                      </a:pathLst>
                    </a:custGeom>
                    <a:solidFill>
                      <a:srgbClr val="ffffff"/>
                    </a:solidFill>
                    <a:ln w="76320">
                      <a:solidFill>
                        <a:srgbClr val="ffcc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97" name=""/>
                <p:cNvGrpSpPr/>
                <p:nvPr/>
              </p:nvGrpSpPr>
              <p:grpSpPr>
                <a:xfrm>
                  <a:off x="2467800" y="2117160"/>
                  <a:ext cx="385560" cy="747720"/>
                  <a:chOff x="2467800" y="2117160"/>
                  <a:chExt cx="385560" cy="747720"/>
                </a:xfrm>
              </p:grpSpPr>
              <p:sp>
                <p:nvSpPr>
                  <p:cNvPr id="98" name=""/>
                  <p:cNvSpPr/>
                  <p:nvPr/>
                </p:nvSpPr>
                <p:spPr>
                  <a:xfrm>
                    <a:off x="2467800" y="2117160"/>
                    <a:ext cx="385560" cy="747720"/>
                  </a:xfrm>
                  <a:prstGeom prst="rect">
                    <a:avLst/>
                  </a:prstGeom>
                  <a:solidFill>
                    <a:srgbClr val="808080"/>
                  </a:solidFill>
                  <a:ln w="28440">
                    <a:solidFill>
                      <a:srgbClr val="99cc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"/>
                  <p:cNvSpPr/>
                  <p:nvPr/>
                </p:nvSpPr>
                <p:spPr>
                  <a:xfrm>
                    <a:off x="2478960" y="2856960"/>
                    <a:ext cx="362880" cy="2520"/>
                  </a:xfrm>
                  <a:prstGeom prst="line">
                    <a:avLst/>
                  </a:prstGeom>
                  <a:ln w="3816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pic>
            <p:nvPicPr>
              <p:cNvPr id="100" name="" descr=""/>
              <p:cNvPicPr/>
              <p:nvPr/>
            </p:nvPicPr>
            <p:blipFill>
              <a:blip r:embed="rId1"/>
              <a:srcRect l="48301" t="56375" r="40471" b="5752"/>
              <a:stretch/>
            </p:blipFill>
            <p:spPr>
              <a:xfrm>
                <a:off x="2497320" y="2141280"/>
                <a:ext cx="322920" cy="1000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1" name=""/>
              <p:cNvSpPr/>
              <p:nvPr/>
            </p:nvSpPr>
            <p:spPr>
              <a:xfrm>
                <a:off x="2532240" y="2068920"/>
                <a:ext cx="252720" cy="0"/>
              </a:xfrm>
              <a:prstGeom prst="line">
                <a:avLst/>
              </a:prstGeom>
              <a:ln w="7632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2087640" y="1405080"/>
                <a:ext cx="1357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cc00"/>
                    </a:solidFill>
                    <a:latin typeface="Comic Sans MS"/>
                  </a:rPr>
                  <a:t>Photocathod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3" name=""/>
            <p:cNvSpPr/>
            <p:nvPr/>
          </p:nvSpPr>
          <p:spPr>
            <a:xfrm>
              <a:off x="2346480" y="1772280"/>
              <a:ext cx="67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99"/>
                  </a:solidFill>
                  <a:latin typeface="Comic Sans MS"/>
                </a:rPr>
                <a:t>Sci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403720" y="2422800"/>
              <a:ext cx="616680" cy="33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99"/>
                  </a:solidFill>
                  <a:latin typeface="Comic Sans MS"/>
                </a:rPr>
                <a:t>PM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5" name="" descr=""/>
          <p:cNvPicPr/>
          <p:nvPr/>
        </p:nvPicPr>
        <p:blipFill>
          <a:blip r:embed="rId2"/>
          <a:srcRect l="0" t="0" r="63264" b="6163"/>
          <a:stretch/>
        </p:blipFill>
        <p:spPr>
          <a:xfrm>
            <a:off x="3691080" y="1197000"/>
            <a:ext cx="1522440" cy="194472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pic>
        <p:nvPicPr>
          <p:cNvPr id="106" name="" descr=""/>
          <p:cNvPicPr/>
          <p:nvPr/>
        </p:nvPicPr>
        <p:blipFill>
          <a:blip r:embed="rId3">
            <a:lum bright="12000"/>
          </a:blip>
          <a:stretch/>
        </p:blipFill>
        <p:spPr>
          <a:xfrm>
            <a:off x="7020000" y="1268280"/>
            <a:ext cx="1838160" cy="1870200"/>
          </a:xfrm>
          <a:prstGeom prst="rect">
            <a:avLst/>
          </a:prstGeom>
          <a:ln w="0">
            <a:noFill/>
          </a:ln>
        </p:spPr>
      </p:pic>
      <p:grpSp>
        <p:nvGrpSpPr>
          <p:cNvPr id="107" name=""/>
          <p:cNvGrpSpPr/>
          <p:nvPr/>
        </p:nvGrpSpPr>
        <p:grpSpPr>
          <a:xfrm>
            <a:off x="2268360" y="3357720"/>
            <a:ext cx="2305080" cy="2232000"/>
            <a:chOff x="2268360" y="3357720"/>
            <a:chExt cx="2305080" cy="2232000"/>
          </a:xfrm>
        </p:grpSpPr>
        <p:pic>
          <p:nvPicPr>
            <p:cNvPr id="108" name="" descr=""/>
            <p:cNvPicPr/>
            <p:nvPr/>
          </p:nvPicPr>
          <p:blipFill>
            <a:blip r:embed="rId4"/>
            <a:srcRect l="17508" t="12557" r="13711" b="5953"/>
            <a:stretch/>
          </p:blipFill>
          <p:spPr>
            <a:xfrm>
              <a:off x="2268360" y="3357720"/>
              <a:ext cx="2305080" cy="2232000"/>
            </a:xfrm>
            <a:prstGeom prst="rect">
              <a:avLst/>
            </a:prstGeom>
            <a:ln w="9360">
              <a:solidFill>
                <a:srgbClr val="333399"/>
              </a:solidFill>
              <a:miter/>
            </a:ln>
          </p:spPr>
        </p:pic>
        <p:pic>
          <p:nvPicPr>
            <p:cNvPr id="109" name="" descr=""/>
            <p:cNvPicPr/>
            <p:nvPr/>
          </p:nvPicPr>
          <p:blipFill>
            <a:blip r:embed="rId5"/>
            <a:srcRect l="16077" t="9433" r="10749" b="5617"/>
            <a:stretch/>
          </p:blipFill>
          <p:spPr>
            <a:xfrm>
              <a:off x="2268360" y="4412520"/>
              <a:ext cx="1168920" cy="11764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10" name="" descr=""/>
          <p:cNvPicPr/>
          <p:nvPr/>
        </p:nvPicPr>
        <p:blipFill>
          <a:blip r:embed="rId6"/>
          <a:stretch/>
        </p:blipFill>
        <p:spPr>
          <a:xfrm>
            <a:off x="5508720" y="3270240"/>
            <a:ext cx="3384360" cy="19652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1908000" y="5877000"/>
            <a:ext cx="31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Comic Sans MS"/>
              </a:rPr>
              <a:t>Multichannel</a:t>
            </a:r>
            <a:r>
              <a:rPr b="0" lang="ja-JP" sz="1800" spc="-1" strike="noStrike">
                <a:solidFill>
                  <a:srgbClr val="99cc00"/>
                </a:solidFill>
                <a:latin typeface="Comic Sans MS"/>
              </a:rPr>
              <a:t> FE ASIC</a:t>
            </a:r>
            <a:r>
              <a:rPr b="0" lang="en-US" sz="1800" spc="-1" strike="noStrike">
                <a:solidFill>
                  <a:srgbClr val="99cc00"/>
                </a:solidFill>
                <a:latin typeface="Comic Sans MS"/>
              </a:rPr>
              <a:t>, close to the PM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700360" y="4869000"/>
            <a:ext cx="358920" cy="2887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2700000" y="5157720"/>
            <a:ext cx="142920" cy="719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7"/>
          <a:stretch/>
        </p:blipFill>
        <p:spPr>
          <a:xfrm>
            <a:off x="5651640" y="5373720"/>
            <a:ext cx="2916000" cy="107784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5435640" y="1125360"/>
            <a:ext cx="3708360" cy="208764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908000" y="3213000"/>
            <a:ext cx="3454560" cy="338472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rot="18900000">
            <a:off x="2916360" y="3212640"/>
            <a:ext cx="4564080" cy="936720"/>
          </a:xfrm>
          <a:prstGeom prst="leftRightArrow">
            <a:avLst>
              <a:gd name="adj1" fmla="val 50000"/>
              <a:gd name="adj2" fmla="val 96997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946320" y="3141720"/>
            <a:ext cx="2872080" cy="5205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combin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504160" y="1484280"/>
            <a:ext cx="1841760" cy="459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Qdet &gt; 10^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528160" y="1484280"/>
            <a:ext cx="1841760" cy="459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Qdet ~ 10^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12996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l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79280" y="765000"/>
            <a:ext cx="885672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aluation of FE-ASIC(MAROC2) with HPD in Jap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eived on Apr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IC design based on the result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Y2008 fal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ne by us (collaboration between F-J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27402" t="24231" r="26768" b="36105"/>
          <a:stretch/>
        </p:blipFill>
        <p:spPr>
          <a:xfrm>
            <a:off x="4952880" y="1268280"/>
            <a:ext cx="4191120" cy="271476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2843280" y="4941720"/>
            <a:ext cx="2016000" cy="935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18840" y="6021360"/>
            <a:ext cx="740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icable ASIC fo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only HPD but also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multi-pixel HP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enefi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23640" y="1052640"/>
            <a:ext cx="8507160" cy="55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For both si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ave manpower for AS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Cross measurements decrease bu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For Japanese-s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Access new technologies (AMS 0.35um process) with low ri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For French-s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Know-how of construction of large water cherencov detector based on SK experi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3T10:42:01Z</dcterms:created>
  <dc:creator>KEK</dc:creator>
  <dc:description/>
  <dc:language>en-US</dc:language>
  <cp:lastModifiedBy>J.E Campagne</cp:lastModifiedBy>
  <dcterms:modified xsi:type="dcterms:W3CDTF">2007-05-09T07:29:57Z</dcterms:modified>
  <cp:revision>11</cp:revision>
  <dc:subject/>
  <dc:title>New photon detector R&amp;D</dc:title>
</cp:coreProperties>
</file>